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533-9D7D-4839-B0E4-18CF88A3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BDC-A108-4C64-BD67-08DEC585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0332-8C73-4247-AFF0-7A54ECA4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CB3F-8FEA-4F21-9554-4E348B7C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405-11D1-4629-ACCF-18D6EF60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BC3-CD3F-481C-B326-4C78D138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844-21DC-4473-B0E5-212B5D55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2B67-C32B-497C-B362-46957D6C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C9DF-7D34-4E5D-9174-CC34D567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E87B-F498-42CE-B7C0-919F588C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ACA-3FAA-4102-8253-18C6582E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DD0-ECBD-4938-B9EE-9E7F00C9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26B7-EEEF-487A-BC95-41136AF55D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7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EED  VALLEY  TOURISTS         VALLEY  TOURISTS                       VALLEY  TOURISTS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657600" y="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.  16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Tweed Valley Tourists 2.JPG"/>
          <p:cNvPicPr/>
          <p:nvPr/>
        </p:nvPicPr>
        <p:blipFill>
          <a:blip r:embed="rId1"/>
          <a:stretch/>
        </p:blipFill>
        <p:spPr>
          <a:xfrm>
            <a:off x="1639800" y="115920"/>
            <a:ext cx="1408320" cy="13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Tweed Valley Tourists 1.jpg"/>
          <p:cNvPicPr/>
          <p:nvPr/>
        </p:nvPicPr>
        <p:blipFill>
          <a:blip r:embed="rId2"/>
          <a:stretch/>
        </p:blipFill>
        <p:spPr>
          <a:xfrm>
            <a:off x="344520" y="446040"/>
            <a:ext cx="107964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Tweed Valley Tourists 3.JPG"/>
          <p:cNvPicPr/>
          <p:nvPr/>
        </p:nvPicPr>
        <p:blipFill>
          <a:blip r:embed="rId3"/>
          <a:stretch/>
        </p:blipFill>
        <p:spPr>
          <a:xfrm>
            <a:off x="3440160" y="476280"/>
            <a:ext cx="10429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9:29:27Z</dcterms:created>
  <dc:creator>JY</dc:creator>
  <dc:description/>
  <dc:language>en-US</dc:language>
  <cp:lastModifiedBy>John</cp:lastModifiedBy>
  <dcterms:modified xsi:type="dcterms:W3CDTF">2011-12-20T21:56:55Z</dcterms:modified>
  <cp:revision>9</cp:revision>
  <dc:subject/>
  <dc:title>Slide 1</dc:title>
</cp:coreProperties>
</file>